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media/image10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2018-F849-4DAD-8B0E-38F4C7E1166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结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2312-F494-40BE-B568-239015AFC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5110-2876-4CD9-942C-0991B4FD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E0E1-92FF-4995-A016-2E448E505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0D61-4705-44FD-A07D-EB5F3F495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4F7F-10FD-49BA-92C7-53B4F36BB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3C7E-266B-4CCC-BEC7-549196FB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201E8-70B2-4F15-8205-47172455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D1CC-7D65-4755-86E2-145F5B6A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A52A-9458-4955-9678-FBC06DFEC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1698-B1D0-4BC2-B69A-933241FC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E5557-2192-4CFD-B208-625B3622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C714-1CB1-40C2-B2E1-FDE92C42B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BE0E-E436-48D6-91B7-84580995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983F-E03F-44CD-AA2F-E89C567F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27BF6-EF80-413C-9812-94DAB2582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D837-E8FD-4F63-82DB-29657944B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91FE4-B056-42E0-A1B0-32C357494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3E97D-88FC-4E16-82C5-AD68CA4BA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42AF4-A146-4082-92E5-3E17BAE1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17907-C906-4774-8B57-099839C0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C6395-5679-4302-9AB8-A4C5BCF5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908F7-56C5-4A3D-8E2B-EFCBB9F8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E72C-A952-4A72-954D-2FAAA57E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00D91-AD17-43EB-A9CA-F321FD85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BD556-43D9-4F11-8360-ABF81598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19B89-9B7D-4FF8-9A1F-1C721B5B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25B68-1BF0-415B-973A-5F960D4F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23170-D3C8-4382-AC1D-0605EB9A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AF4A8-A3CD-4100-9A61-ED932ED4D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82437-34A9-4367-8C3B-580B7B145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23E2-6661-453C-822C-44856A0E4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88EE-B6C5-47AC-98E8-6B00C54B6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74AC-DD98-4ED3-9A9E-505B6B2D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1080-1EED-4BB3-ABF1-1A8DB5DB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1412-5B3B-4A5F-B583-56ED0B39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0FA4-18B5-4D77-904B-33103F3CB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C863-02BC-4A08-8C8F-E3A73285BC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A3DF-B545-402E-98A9-BBB498983746}" type="slidenum">
              <a:rPr b="0" lang="zh-CN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264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D396-3623-423C-883C-44D3AD025532}" type="slidenum">
              <a:rPr b="0" lang="zh-CN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258,1,&#24187;&#28783;&#29255;%201" TargetMode="External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699640" y="1203480"/>
            <a:ext cx="365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隶书"/>
              </a:rPr>
              <a:t>渔　家　傲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91560" y="324648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00"/>
                </a:solidFill>
                <a:latin typeface="Times New Roman"/>
                <a:ea typeface="方正姚体"/>
              </a:rPr>
              <a:t>范仲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16760" y="4897440"/>
            <a:ext cx="3011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华文行楷"/>
              </a:rPr>
              <a:t>兴华公学初三语文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华文行楷"/>
              </a:rPr>
              <a:t>            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华文行楷"/>
              </a:rPr>
              <a:t>2005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华文行楷"/>
              </a:rPr>
              <a:t>、</a:t>
            </a: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华文行楷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1979640" y="549360"/>
            <a:ext cx="4824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行楷"/>
              </a:rPr>
              <a:t>中心思想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37" name=""/>
          <p:cNvSpPr/>
          <p:nvPr/>
        </p:nvSpPr>
        <p:spPr>
          <a:xfrm>
            <a:off x="144360" y="269712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&lt;&lt;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渔家傲》这首词通过写边塞的战地风光，表现了作者报国立功的英雄气慨和壮志难酬、思乡忧国的感慨情怀，同时也写出了边塞战士的艰苦生活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55280" y="1265400"/>
            <a:ext cx="77770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“千嶂里，长烟落日孤城闭。”写出了塞外怎样的景致？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00000" y="274320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方正姚体"/>
              </a:rPr>
              <a:t>        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方正姚体"/>
              </a:rPr>
              <a:t>群山连绵，炊烟袅袅，夕阳西下，一座孤城，表现了边塞的悲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7960" y="17640"/>
            <a:ext cx="153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问题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、怎样理解</a:t>
            </a:r>
            <a:r>
              <a:rPr b="1" lang="zh-CN" sz="5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人不寐，将军白发征夫泪。”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5640" y="2133720"/>
            <a:ext cx="770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imes New Roman"/>
                <a:ea typeface="方正姚体"/>
              </a:rPr>
              <a:t>       </a:t>
            </a:r>
            <a:r>
              <a:rPr b="0" lang="zh-CN" sz="4000" spc="-1" strike="noStrike">
                <a:solidFill>
                  <a:srgbClr val="008000"/>
                </a:solidFill>
                <a:latin typeface="Times New Roman"/>
                <a:ea typeface="方正姚体"/>
              </a:rPr>
              <a:t>面对浊酒一杯，映着将军花白的头发和士兵的眼泪。表现了将士壮志难酬，怀念故乡的心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250920" y="828720"/>
            <a:ext cx="8642160" cy="15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边境上秋天一来风景全异，向衡阳飞去的雁群毫无留恋的情意。从四面八方传来的边地悲声随着号角响起。重重叠叠的山峰里，长烟直上落日斜照孤城紧闭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喝一杯陈酒怀念家乡远隔万里，可是燕然还未刻上平胡的功绩，回归无法预计。羌人的笛声悠扬，寒霜撒满大地。征人不能入寐，将军头发花白，战士洒下眼泪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43840" y="7452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参考译文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80880" y="260280"/>
            <a:ext cx="836784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、本册中我们还学了范仲淹的哪篇文章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、从空间描写洞庭湖的句子是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、览阴冷景物触发了迁客骚人怎样的感情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、作者认为，一个人应具备怎样的情怀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能做到“不以物喜，不以己悲”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、《渔家傲》中从声音来写边关空旷的诗句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、温庭筠的《梦江南》，描写女子肠断的句子是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4419720" y="1941480"/>
            <a:ext cx="446040" cy="4795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2340000" y="1197000"/>
            <a:ext cx="4608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华文新魏"/>
              </a:rPr>
              <a:t>课间   休息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华文新魏"/>
              <a:ea typeface="华文新魏"/>
            </a:endParaRPr>
          </a:p>
        </p:txBody>
      </p:sp>
      <p:sp>
        <p:nvSpPr>
          <p:cNvPr id="251" name=""/>
          <p:cNvSpPr/>
          <p:nvPr/>
        </p:nvSpPr>
        <p:spPr>
          <a:xfrm>
            <a:off x="3808080" y="3594240"/>
            <a:ext cx="30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华文行楷"/>
              </a:rPr>
              <a:t>欢迎各位指导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808200" y="186048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2720" y="2882160"/>
            <a:ext cx="799164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　　范仲淹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(969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1052)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，字希文，江苏吴县人。庆历三年七月，授参知政事，主持庆历改革，因守旧派阻挠而未果。次年罢政，自请外任，历知州、邓州、杭州、青州。卒谥文正。他不仅是北宋著名的政治家、军事家、文学成就亦杰然可观。散文《岳阳楼记》为千古名篇，词则能突破唐末五代词的绮靡风气。有《范文正公集》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词仅存五首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59840" y="21924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作者简介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55480" y="44280"/>
            <a:ext cx="819324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解题：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宋仁宗康定元年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作者任陕西经略副使兼知延州，抵御西夏发动的战争。他在西北边塞生活达四年之久，对边地生活与士兵的疾苦有较深的理解，治军也颇有成效。当地民谣说道：“军中有一范，西贼闻之惊破胆。”这首词就作于此时，一方面，表现出作者平息叛乱、反对侵略和巩固边防的决心和意愿，另方面，也描写了外患未除、功业未建以及久戍边地、士兵思乡等复杂矛盾的心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450240" y="225360"/>
            <a:ext cx="2375280" cy="63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塞下秋来风景异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衡阳雁去无留意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四面边角连声起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千嶂里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长烟落日孤城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浊酒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仿宋"/>
              </a:rPr>
              <a:t>一杯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家万里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燕然未勒归无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羌笛悠悠霜满地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人不寐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将军白发征夫泪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-94320" y="692280"/>
            <a:ext cx="1826280" cy="46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渔家傲  范仲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68360" y="616572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5793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139760" y="2332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赏析诗歌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29840" y="156384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塞下秋来风景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11640" y="1268280"/>
            <a:ext cx="493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211640" y="981000"/>
            <a:ext cx="4932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995640" y="1052640"/>
            <a:ext cx="4969080" cy="1871640"/>
            <a:chOff x="3995640" y="1052640"/>
            <a:chExt cx="4969080" cy="1871640"/>
          </a:xfrm>
        </p:grpSpPr>
        <p:sp>
          <p:nvSpPr>
            <p:cNvPr id="159" name=""/>
            <p:cNvSpPr/>
            <p:nvPr/>
          </p:nvSpPr>
          <p:spPr>
            <a:xfrm>
              <a:off x="4051440" y="1052640"/>
              <a:ext cx="4838400" cy="1871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95640" y="1125360"/>
              <a:ext cx="4969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塞下”点明了地点，“秋来”点明了时间，“异”字统领全词。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1329840" y="40114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衡阳雁去无留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067280" y="3213000"/>
            <a:ext cx="5761080" cy="2377440"/>
            <a:chOff x="4067280" y="3213000"/>
            <a:chExt cx="5761080" cy="2377440"/>
          </a:xfrm>
        </p:grpSpPr>
        <p:sp>
          <p:nvSpPr>
            <p:cNvPr id="163" name=""/>
            <p:cNvSpPr/>
            <p:nvPr/>
          </p:nvSpPr>
          <p:spPr>
            <a:xfrm>
              <a:off x="4067280" y="3213000"/>
              <a:ext cx="4897440" cy="23767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140360" y="3322800"/>
              <a:ext cx="5688000" cy="22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这是用拟人手法写人的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感受，突出边塞的异常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苦寒：雁尚且无留恋之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情，将士又何以忍受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969840" y="1989000"/>
            <a:ext cx="388944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面边声连角起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千嶂里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长烟落日孤城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5003640" y="549360"/>
            <a:ext cx="2953080" cy="5111640"/>
            <a:chOff x="5003640" y="549360"/>
            <a:chExt cx="2953080" cy="5111640"/>
          </a:xfrm>
        </p:grpSpPr>
        <p:sp>
          <p:nvSpPr>
            <p:cNvPr id="168" name=""/>
            <p:cNvSpPr/>
            <p:nvPr/>
          </p:nvSpPr>
          <p:spPr>
            <a:xfrm>
              <a:off x="5003640" y="549360"/>
              <a:ext cx="2953080" cy="5111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76720" y="658800"/>
              <a:ext cx="2808360" cy="19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1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描写边塞黄昏的苍凉景色：“边声连角起”表明战事紧，“孤城闭”暗示敌强我弱。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4427640" y="620640"/>
            <a:ext cx="29527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427640" y="620640"/>
            <a:ext cx="29527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427640" y="692280"/>
            <a:ext cx="295272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27640" y="620640"/>
            <a:ext cx="295272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-36360" y="2700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5" name=""/>
          <p:cNvSpPr/>
          <p:nvPr/>
        </p:nvSpPr>
        <p:spPr>
          <a:xfrm>
            <a:off x="2061360" y="6793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浊酒一杯家万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29840" y="27874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燕然未勒归无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39840" y="32338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56760" y="473220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羌管悠悠霜满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572000" y="260280"/>
            <a:ext cx="4376880" cy="1706760"/>
            <a:chOff x="4572000" y="260280"/>
            <a:chExt cx="4376880" cy="1706760"/>
          </a:xfrm>
        </p:grpSpPr>
        <p:sp>
          <p:nvSpPr>
            <p:cNvPr id="180" name=""/>
            <p:cNvSpPr/>
            <p:nvPr/>
          </p:nvSpPr>
          <p:spPr>
            <a:xfrm>
              <a:off x="4572000" y="260280"/>
              <a:ext cx="4376880" cy="17067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71400" y="404640"/>
              <a:ext cx="2657160" cy="14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　“浊酒”表明边塞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活的艰苦，“家万里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表现了思乡之切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6012000" y="17002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00720" y="260280"/>
            <a:ext cx="439236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00720" y="189000"/>
            <a:ext cx="43923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00720" y="260280"/>
            <a:ext cx="439236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00720" y="260280"/>
            <a:ext cx="4392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00720" y="189000"/>
            <a:ext cx="43923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572000" y="2492280"/>
            <a:ext cx="4248000" cy="1311480"/>
            <a:chOff x="4572000" y="2492280"/>
            <a:chExt cx="4248000" cy="1311480"/>
          </a:xfrm>
        </p:grpSpPr>
        <p:sp>
          <p:nvSpPr>
            <p:cNvPr id="189" name=""/>
            <p:cNvSpPr/>
            <p:nvPr/>
          </p:nvSpPr>
          <p:spPr>
            <a:xfrm>
              <a:off x="4572000" y="2508120"/>
              <a:ext cx="4248000" cy="1295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641840" y="2492280"/>
              <a:ext cx="410688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　慨叹功业未建，边患未除，归乡无期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4572000" y="4221000"/>
            <a:ext cx="4305240" cy="1943280"/>
            <a:chOff x="4572000" y="4221000"/>
            <a:chExt cx="4305240" cy="1943280"/>
          </a:xfrm>
        </p:grpSpPr>
        <p:sp>
          <p:nvSpPr>
            <p:cNvPr id="192" name=""/>
            <p:cNvSpPr/>
            <p:nvPr/>
          </p:nvSpPr>
          <p:spPr>
            <a:xfrm>
              <a:off x="4572000" y="4221000"/>
              <a:ext cx="4305240" cy="194328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91360" y="4654440"/>
              <a:ext cx="2619000" cy="14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这入夜的悠悠羌音、浓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浓白霜，更使人惆怅难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眠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500720" y="4797360"/>
            <a:ext cx="4392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00720" y="4797360"/>
            <a:ext cx="43192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00720" y="4797360"/>
            <a:ext cx="4392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00720" y="4797360"/>
            <a:ext cx="439236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00720" y="4797360"/>
            <a:ext cx="4392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27640" y="4797360"/>
            <a:ext cx="44654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27640" y="4869000"/>
            <a:ext cx="4465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64000" y="4724280"/>
            <a:ext cx="914400" cy="12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500720" y="4653000"/>
            <a:ext cx="4392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03640" y="5589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843280" y="50133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276720" y="6165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859280" y="5661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-36360" y="27000"/>
            <a:ext cx="9144000" cy="6858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8" name=""/>
          <p:cNvSpPr/>
          <p:nvPr/>
        </p:nvSpPr>
        <p:spPr>
          <a:xfrm>
            <a:off x="1401480" y="2276640"/>
            <a:ext cx="210096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人不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将军白发征夫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716360" y="907920"/>
            <a:ext cx="3527640" cy="48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88000" y="1052640"/>
            <a:ext cx="345600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788000" y="836640"/>
            <a:ext cx="3456000" cy="5307120"/>
            <a:chOff x="4788000" y="836640"/>
            <a:chExt cx="3456000" cy="5307120"/>
          </a:xfrm>
        </p:grpSpPr>
        <p:sp>
          <p:nvSpPr>
            <p:cNvPr id="212" name=""/>
            <p:cNvSpPr/>
            <p:nvPr/>
          </p:nvSpPr>
          <p:spPr>
            <a:xfrm>
              <a:off x="4840200" y="1036800"/>
              <a:ext cx="3332160" cy="141012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不寐”的是将军也是征夫，流下的是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思念家乡的泪，更是功业无成、壮志未酬的英雄泪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!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88000" y="836640"/>
              <a:ext cx="3456000" cy="530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914400"/>
            <a:ext cx="838080" cy="29793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cc00"/>
                </a:solidFill>
                <a:latin typeface="Times New Roman"/>
                <a:ea typeface="华文隶书"/>
              </a:rPr>
              <a:t>渔家傲</a:t>
            </a:r>
            <a:r>
              <a:rPr b="0" lang="zh-CN" sz="4000" spc="-1" strike="noStrike" u="sng">
                <a:solidFill>
                  <a:srgbClr val="ffff00"/>
                </a:solidFill>
                <a:uFillTx/>
                <a:latin typeface="Times New Roman"/>
                <a:ea typeface="华文楷体"/>
                <a:hlinkClick r:id="rId2"/>
              </a:rPr>
              <a:t>范仲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438280" y="121932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隶书"/>
              </a:rPr>
              <a:t>上阕写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0" y="380880"/>
            <a:ext cx="20574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</a:rPr>
              <a:t>衡阳雁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</a:rPr>
              <a:t>边声连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</a:rPr>
              <a:t>千嶂孤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</a:rPr>
              <a:t>长烟落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43400" y="685800"/>
            <a:ext cx="304920" cy="22096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553080" y="685800"/>
            <a:ext cx="76320" cy="2286000"/>
          </a:xfrm>
          <a:custGeom>
            <a:avLst/>
            <a:gdLst>
              <a:gd name="textAreaLeft" fmla="*/ 0 w 76320"/>
              <a:gd name="textAreaRight" fmla="*/ 27360 w 7632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05720" y="990720"/>
            <a:ext cx="18288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渲染荒凉萧瑟气氛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362320" y="3962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99"/>
                </a:solidFill>
                <a:latin typeface="Times New Roman"/>
                <a:ea typeface="隶书"/>
              </a:rPr>
              <a:t>下阕抒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971800" y="1897200"/>
            <a:ext cx="762120" cy="6426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  <a:ea typeface="华文细黑"/>
              </a:rPr>
              <a:t>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419720" y="3352680"/>
            <a:ext cx="2666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</a:rPr>
              <a:t>家万里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</a:rPr>
              <a:t>- 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</a:rPr>
              <a:t>归无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Times New Roman"/>
              </a:rPr>
              <a:t>羌管悠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</a:rPr>
              <a:t>-</a:t>
            </a:r>
            <a:r>
              <a:rPr b="1" lang="zh-CN" sz="2800" spc="-1" strike="noStrike">
                <a:solidFill>
                  <a:srgbClr val="9900ff"/>
                </a:solidFill>
                <a:latin typeface="Times New Roman"/>
              </a:rPr>
              <a:t>霜满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燕然未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91120" y="3505320"/>
            <a:ext cx="304560" cy="1600200"/>
          </a:xfrm>
          <a:custGeom>
            <a:avLst/>
            <a:gdLst>
              <a:gd name="textAreaLeft" fmla="*/ 194760 w 304560"/>
              <a:gd name="textAreaRight" fmla="*/ 304920 w 30456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0" y="3505320"/>
            <a:ext cx="304920" cy="1676160"/>
          </a:xfrm>
          <a:custGeom>
            <a:avLst/>
            <a:gdLst>
              <a:gd name="textAreaLeft" fmla="*/ 0 w 304920"/>
              <a:gd name="textAreaRight" fmla="*/ 110160 w 304920"/>
              <a:gd name="textAreaTop" fmla="*/ 43560 h 1676160"/>
              <a:gd name="textAreaBottom" fmla="*/ 163260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36496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抒发思乡报国之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71800" y="4724280"/>
            <a:ext cx="838080" cy="7034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华文细黑"/>
              </a:rPr>
              <a:t>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352680" y="2666880"/>
            <a:ext cx="0" cy="19051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43200" y="2590920"/>
            <a:ext cx="533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Times New Roman"/>
              </a:rPr>
              <a:t>借景抒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001000" y="1981080"/>
            <a:ext cx="0" cy="175284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90920" y="5791320"/>
            <a:ext cx="6172200" cy="6426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苍凉悲壮，                沉郁雄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9880" y="5486400"/>
            <a:ext cx="685800" cy="30492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7391520" y="4724280"/>
            <a:ext cx="761760" cy="1143000"/>
          </a:xfrm>
          <a:prstGeom prst="line">
            <a:avLst/>
          </a:prstGeom>
          <a:ln w="93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5257800" y="5105520"/>
            <a:ext cx="1371600" cy="13269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1T01:26:03Z</dcterms:created>
  <dc:creator>liu</dc:creator>
  <dc:description/>
  <dc:language>en-US</dc:language>
  <cp:lastModifiedBy>dell</cp:lastModifiedBy>
  <dcterms:modified xsi:type="dcterms:W3CDTF">2013-11-18T01:30:49Z</dcterms:modified>
  <cp:revision>91</cp:revision>
  <dc:subject/>
  <dc:title>幻灯片 1</dc:title>
</cp:coreProperties>
</file>